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wmf" ContentType="image/x-wmf"/>
  <Override PartName="/ppt/media/image9.gif" ContentType="image/gif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12C-5340-40B4-9775-27C841E5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8BC-6407-4BE3-9A97-1D5CC0E5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EC84-3911-4784-AAC6-4B1AC3C2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410-E8D8-4828-AFFD-4F79FBEF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3616-5FA1-4F20-8D28-28B4A5DE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5F3A-E27B-48B5-9056-FC92B2EB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EE0B-8168-46A3-AC39-7C4ABF71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C61D-0309-4E83-8ED9-A7843C22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701C-AC39-411F-B8B1-F08BB59B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4339-C906-4990-88F1-0ECA16A4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1C3B-FB82-4D2C-B29B-F489926A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7C02-9163-4813-92B3-8C114A60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50F8-E0DD-48DF-8580-5B37289B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1DA2-3C5A-4D13-BDBB-43DA6C28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C0E3-77C1-47F9-9EC9-D723D355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0AFF-613E-4635-9A35-4AF633A7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2AC2-B051-4055-8473-D6740B2E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F581-D910-4AE4-9012-65D8CAFC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2F4D-3C8B-4635-AA12-D1A4BC02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4D0D-A084-48CF-99DB-7BCD01FF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6D0-3A20-442E-886E-3C79F8A9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85F0-2982-43FA-9F10-10C13BF5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489-A8A9-4422-B07E-27BFD214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1148-FC07-40AC-9A52-A56F3C30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9421-02C7-4D4B-BE5B-9DB125CAC777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C78E-2C47-4746-8273-1641A0A5D219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5FE8-D80D-423C-9F24-FE4B83110A97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30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8A11-3101-45E8-9B0F-94D7C4E38803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5129"/>
          <p:cNvSpPr/>
          <p:nvPr/>
        </p:nvSpPr>
        <p:spPr>
          <a:xfrm>
            <a:off x="1854360" y="2343240"/>
            <a:ext cx="59436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34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even’s Repor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581280" y="762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0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37893"/>
          <p:cNvSpPr/>
          <p:nvPr/>
        </p:nvSpPr>
        <p:spPr>
          <a:xfrm>
            <a:off x="1066680" y="144792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多么好的一天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______ ______ day!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李明常和他的朋友去野餐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 Ming often ____ _____ ______ with his friend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我给你一个热情的拥抱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t me _____ you ______ ______ 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文本框 37899"/>
          <p:cNvSpPr/>
          <p:nvPr/>
        </p:nvSpPr>
        <p:spPr>
          <a:xfrm>
            <a:off x="3505320" y="373392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文本框 37900"/>
          <p:cNvSpPr/>
          <p:nvPr/>
        </p:nvSpPr>
        <p:spPr>
          <a:xfrm>
            <a:off x="4952880" y="3733920"/>
            <a:ext cx="11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icnic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文本框 37901"/>
          <p:cNvSpPr/>
          <p:nvPr/>
        </p:nvSpPr>
        <p:spPr>
          <a:xfrm>
            <a:off x="2590920" y="480060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v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矩形 37907"/>
          <p:cNvSpPr/>
          <p:nvPr/>
        </p:nvSpPr>
        <p:spPr>
          <a:xfrm>
            <a:off x="4260960" y="37339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矩形 37908"/>
          <p:cNvSpPr/>
          <p:nvPr/>
        </p:nvSpPr>
        <p:spPr>
          <a:xfrm>
            <a:off x="2438280" y="262260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        grea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文本框 37913"/>
          <p:cNvSpPr/>
          <p:nvPr/>
        </p:nvSpPr>
        <p:spPr>
          <a:xfrm>
            <a:off x="4114800" y="480060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文本框 37914"/>
          <p:cNvSpPr/>
          <p:nvPr/>
        </p:nvSpPr>
        <p:spPr>
          <a:xfrm>
            <a:off x="4952880" y="480060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rm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文本框 37915"/>
          <p:cNvSpPr/>
          <p:nvPr/>
        </p:nvSpPr>
        <p:spPr>
          <a:xfrm>
            <a:off x="6019920" y="480060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u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1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23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21" name="文本框 33897"/>
          <p:cNvSpPr/>
          <p:nvPr/>
        </p:nvSpPr>
        <p:spPr>
          <a:xfrm>
            <a:off x="1219320" y="26226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有没有最高兴的一天呢？那天你都做了什么？请你写出来让大家也高兴一下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文本框 60423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Activity is the only road to knowledge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行动是通往知识的唯一道路。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23" name="图片 60425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6042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447920" y="28195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funny things can you do in autumn? Please say something about it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44035"/>
          <p:cNvSpPr/>
          <p:nvPr/>
        </p:nvSpPr>
        <p:spPr>
          <a:xfrm>
            <a:off x="3733920" y="54561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loud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9" name="图片 44049" descr="45b3bbcb1c2c6dad"/>
          <p:cNvPicPr/>
          <p:nvPr/>
        </p:nvPicPr>
        <p:blipFill>
          <a:blip r:embed="rId1"/>
          <a:stretch/>
        </p:blipFill>
        <p:spPr>
          <a:xfrm>
            <a:off x="1523880" y="1752480"/>
            <a:ext cx="5867640" cy="36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48131"/>
          <p:cNvSpPr/>
          <p:nvPr/>
        </p:nvSpPr>
        <p:spPr>
          <a:xfrm>
            <a:off x="4114800" y="5380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1" name="图片 48137" descr="u=3784244512,672833707&amp;fm=23&amp;gp=0"/>
          <p:cNvPicPr/>
          <p:nvPr/>
        </p:nvPicPr>
        <p:blipFill>
          <a:blip r:embed="rId1"/>
          <a:stretch/>
        </p:blipFill>
        <p:spPr>
          <a:xfrm>
            <a:off x="1533600" y="1295280"/>
            <a:ext cx="623880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49155"/>
          <p:cNvSpPr/>
          <p:nvPr/>
        </p:nvSpPr>
        <p:spPr>
          <a:xfrm>
            <a:off x="3963240" y="5532480"/>
            <a:ext cx="97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pl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3" name="图片 49159" descr="u=422364297,1741028363&amp;fm=52&amp;gp=0"/>
          <p:cNvPicPr/>
          <p:nvPr/>
        </p:nvPicPr>
        <p:blipFill>
          <a:blip r:embed="rId1"/>
          <a:srcRect l="0" t="4257" r="0" b="0"/>
          <a:stretch/>
        </p:blipFill>
        <p:spPr>
          <a:xfrm>
            <a:off x="1143000" y="1143000"/>
            <a:ext cx="678168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51203"/>
          <p:cNvSpPr/>
          <p:nvPr/>
        </p:nvSpPr>
        <p:spPr>
          <a:xfrm>
            <a:off x="3963960" y="55324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os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5" name="图片 51207" descr="u=3244853781,198379921&amp;fm=23&amp;gp=0"/>
          <p:cNvPicPr/>
          <p:nvPr/>
        </p:nvPicPr>
        <p:blipFill>
          <a:blip r:embed="rId1"/>
          <a:srcRect l="0" t="0" r="0" b="3931"/>
          <a:stretch/>
        </p:blipFill>
        <p:spPr>
          <a:xfrm>
            <a:off x="2133720" y="1305000"/>
            <a:ext cx="4572000" cy="372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14337"/>
          <p:cNvSpPr/>
          <p:nvPr/>
        </p:nvSpPr>
        <p:spPr>
          <a:xfrm>
            <a:off x="1066680" y="76212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and fill in the chart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矩形 14347"/>
          <p:cNvSpPr/>
          <p:nvPr/>
        </p:nvSpPr>
        <p:spPr>
          <a:xfrm>
            <a:off x="3581280" y="3809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rm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90720" y="1676520"/>
          <a:ext cx="7391160" cy="4038480"/>
        </p:xfrm>
        <a:graphic>
          <a:graphicData uri="http://schemas.openxmlformats.org/drawingml/2006/table">
            <a:tbl>
              <a:tblPr/>
              <a:tblGrid>
                <a:gridCol w="2304720"/>
                <a:gridCol w="1657440"/>
                <a:gridCol w="3429000"/>
              </a:tblGrid>
              <a:tr h="1003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even’s Favourite Day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ime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Weather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ies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fter breakfast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fter lunch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矩形 14403"/>
          <p:cNvSpPr/>
          <p:nvPr/>
        </p:nvSpPr>
        <p:spPr>
          <a:xfrm>
            <a:off x="5105520" y="35812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went on a trip to the countryside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矩形 14406"/>
          <p:cNvSpPr/>
          <p:nvPr/>
        </p:nvSpPr>
        <p:spPr>
          <a:xfrm>
            <a:off x="3582360" y="4952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ain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矩形 14407"/>
          <p:cNvSpPr/>
          <p:nvPr/>
        </p:nvSpPr>
        <p:spPr>
          <a:xfrm>
            <a:off x="5193720" y="495288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fed the gees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15361"/>
          <p:cNvSpPr/>
          <p:nvPr/>
        </p:nvSpPr>
        <p:spPr>
          <a:xfrm>
            <a:off x="838080" y="16002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w it’s Steven’s turn to speak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现在轮到斯蒂芬说了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文本框 15362"/>
          <p:cNvSpPr/>
          <p:nvPr/>
        </p:nvSpPr>
        <p:spPr>
          <a:xfrm>
            <a:off x="1219320" y="2789280"/>
            <a:ext cx="74674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’s one’s turn to do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轮到某人做某事。这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urn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名词，表示“次序”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’s our turn to clean the classroom toda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今天轮到我们打扫教室了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5" name="图片 15370" descr="3"/>
          <p:cNvPicPr/>
          <p:nvPr/>
        </p:nvPicPr>
        <p:blipFill>
          <a:blip r:embed="rId1"/>
          <a:stretch/>
        </p:blipFill>
        <p:spPr>
          <a:xfrm>
            <a:off x="6629400" y="106668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6385"/>
          <p:cNvSpPr/>
          <p:nvPr/>
        </p:nvSpPr>
        <p:spPr>
          <a:xfrm>
            <a:off x="914400" y="720720"/>
            <a:ext cx="7772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Later, we had a picnic near the lak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来，我们在湖边野餐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文本框 16386"/>
          <p:cNvSpPr/>
          <p:nvPr/>
        </p:nvSpPr>
        <p:spPr>
          <a:xfrm>
            <a:off x="1219320" y="19051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ve a picnic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野餐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v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构成许多短语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ve a cold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感冒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ve a talk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谈谈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ve a meeting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开会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ve a rest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休息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ve a headach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头疼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8" name="图片 16392" descr=""/>
          <p:cNvPicPr/>
          <p:nvPr/>
        </p:nvPicPr>
        <p:blipFill>
          <a:blip r:embed="rId1"/>
          <a:stretch/>
        </p:blipFill>
        <p:spPr>
          <a:xfrm>
            <a:off x="533520" y="4648320"/>
            <a:ext cx="8064360" cy="12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14:53Z</dcterms:created>
  <dc:creator/>
  <dc:description/>
  <dc:language>en-US</dc:language>
  <cp:lastModifiedBy>Administrator</cp:lastModifiedBy>
  <dcterms:modified xsi:type="dcterms:W3CDTF">2019-01-02T01:15:44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